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1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P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3F40E6-7BC3-4DCD-830A-577DCABCAACB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1B910F2-C80C-4258-BBD2-7C314E013BF3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F8AFFA6-416C-4E4C-A4D0-CA82B2F9CDA5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A2E7563-0331-4A55-942D-3E9AA084D8D1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0AF2424-06AF-4298-B914-51E014E65F55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0CB60C9-1442-42E1-8344-40D33BD81A0D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67CE4E6-EAEF-4D29-9BA8-185BE1DD68CB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F996A5C-8C3F-4275-B4E2-9BE4DBB4FB27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B1AA06D-7533-4E92-8EA5-5CAE999E9733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E01BD37-2C8F-4B74-AEDA-368D4B2022F1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65AE6A6-2219-475D-9360-36F9B0D943BF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BB2A863-FDAC-435C-B4B4-A63D27B7CB70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964B789-E020-4663-B41D-463AFF44188D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3ED45B-3AFF-4C83-A2B2-969635266E43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5859CAA-F966-4802-BABA-DEEE9090D20C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F2EBF4A-752D-4B48-9B03-B11EBABE52BF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E3E0FCA-D137-4111-9A23-DBB2CEBBB055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5847977-873B-428C-81AC-DCFD29EC4A6B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90FF6E0-8E4A-45FD-A2A1-CABD31D06028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4A576C3-E0BB-4BAD-89B6-6739DD9DF953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DE34FED-08AB-46BD-A56F-BB82B2EEBF48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AAFBB9-F987-4371-8A4E-588E63B28C32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6630099-277F-466F-A027-7B721B8F6308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5B9BAC9-8364-4BE9-B517-00EA1ED55676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2D4ED30-07A3-4007-986F-DA510FAB8824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BA37687-3C72-4FD8-B342-A5FD994C145D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79965F9-2C2A-4887-82A6-54A94932AAC9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45A33E1-2DAF-428F-BDBC-997FD1BFD917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67860E5-02A1-4F66-9390-5F5748947A20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F8B873-69A3-408F-907D-E35467E7FECD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59F7EA9-CC4F-4F03-9431-E3C9F8690E4B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6EA556B-8EE5-4050-9F09-C3A0BF320479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422F2F9-E4A1-4082-BB2E-4EE9B2118098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7CF553D-5F25-4660-A8C2-0EF5DDDFA841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ACCE037-FE9B-487E-A455-CB7D9A3A7BE4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B0372E-EE95-4062-8D3D-BC495CCCD412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FA4-6B0D-4448-811C-FA8F5DD9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1C7-F25C-489D-BBB0-14ED635C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D0F9-7BCB-48EF-944C-C6C7C360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764-4C87-4104-89E1-3E8BDF13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C57A-BDB1-4749-8BD0-3F0B84FE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BC2D-492F-4C04-AA91-93CC6DE8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D11-1626-42D6-84DC-A3CFE3A4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80D-4D9F-471B-84EA-5BDE50A8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01CA-1D56-4762-B57B-44139539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D21-96E2-4AD8-B204-1A830E7E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423-91F8-498A-80CE-1D1AA7E1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43B-B829-44EA-9999-EC5685FA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7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PH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4C6D95-6034-40F3-8F32-B548F12C1438}" type="slidenum">
              <a:rPr b="0" lang="en-PH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rduino.cc/" TargetMode="External"/><Relationship Id="rId2" Type="http://schemas.openxmlformats.org/officeDocument/2006/relationships/hyperlink" Target="http://www.e-gizmo.net/oc/kits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95280" y="169920"/>
            <a:ext cx="72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Pbot 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03280" y="93672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ccff"/>
                </a:solidFill>
                <a:latin typeface="Geometr415 Blk BT"/>
              </a:rPr>
              <a:t>MANUAL GU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079640" y="2198520"/>
            <a:ext cx="517680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VARIAN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0000"/>
                </a:solidFill>
                <a:latin typeface="Bahnschrift"/>
              </a:rPr>
              <a:t>PBot U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&gt; Line fol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&gt; Maze S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&gt; Sumo f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  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Wireless controlled: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&gt; Blueto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&gt; UHF/RF mo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     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with PS2 Control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&gt; Eth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&gt; Wif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NEW FEATURES: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80808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808080"/>
                </a:solidFill>
                <a:latin typeface="Bahnschrift"/>
              </a:rPr>
              <a:t>&gt; with Ultrasonic sen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80808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808080"/>
                </a:solidFill>
                <a:latin typeface="Bahnschrift"/>
              </a:rPr>
              <a:t>&gt; with EGRA (Robotic A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80808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808080"/>
                </a:solidFill>
                <a:latin typeface="Bahnschrift"/>
              </a:rPr>
              <a:t>&gt; Arduino Expansion IO p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808080"/>
                </a:solidFill>
                <a:latin typeface="Bahnschrift"/>
              </a:rPr>
              <a:t>*(Op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493560" y="169920"/>
            <a:ext cx="3465720" cy="127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6696000" y="5780160"/>
            <a:ext cx="1289160" cy="1288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7178760" y="5288040"/>
            <a:ext cx="22683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200" spc="-1" strike="noStrike">
                <a:solidFill>
                  <a:srgbClr val="000000"/>
                </a:solidFill>
                <a:latin typeface="Arial"/>
              </a:rPr>
              <a:t>Included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200" spc="-1" strike="noStrike">
                <a:solidFill>
                  <a:srgbClr val="000000"/>
                </a:solidFill>
                <a:latin typeface="Arial"/>
              </a:rPr>
              <a:t>- USB Cable Type A to mini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2" descr="C:\Users\AMOR\Downloads\IMG_20231104_001908.png"/>
          <p:cNvPicPr/>
          <p:nvPr/>
        </p:nvPicPr>
        <p:blipFill>
          <a:blip r:embed="rId3"/>
          <a:stretch/>
        </p:blipFill>
        <p:spPr>
          <a:xfrm>
            <a:off x="4964040" y="1494000"/>
            <a:ext cx="46720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5"/>
          <p:cNvSpPr/>
          <p:nvPr/>
        </p:nvSpPr>
        <p:spPr>
          <a:xfrm>
            <a:off x="849240" y="5761080"/>
            <a:ext cx="807732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Connect the PBOT to P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403280" y="1944720"/>
            <a:ext cx="4357800" cy="1336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258920" y="3672000"/>
            <a:ext cx="1765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USB Conne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 flipV="1">
            <a:off x="2592360" y="3271680"/>
            <a:ext cx="5763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168720" y="3384720"/>
            <a:ext cx="36036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024360" y="3743280"/>
            <a:ext cx="647640" cy="503280"/>
          </a:xfrm>
          <a:prstGeom prst="rect">
            <a:avLst/>
          </a:prstGeom>
          <a:solidFill>
            <a:srgbClr val="33333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7"/>
          <p:cNvSpPr/>
          <p:nvPr/>
        </p:nvSpPr>
        <p:spPr>
          <a:xfrm>
            <a:off x="3240000" y="4248000"/>
            <a:ext cx="792360" cy="1008360"/>
          </a:xfrm>
          <a:custGeom>
            <a:avLst/>
            <a:gdLst>
              <a:gd name="textAreaLeft" fmla="*/ 0 w 792360"/>
              <a:gd name="textAreaRight" fmla="*/ 792720 w 79236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1c1c1c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>
            <a:off x="3946680" y="3335400"/>
            <a:ext cx="3396960" cy="2351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5240160" y="3600360"/>
            <a:ext cx="808200" cy="10112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1800360" y="4767120"/>
            <a:ext cx="1307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USB C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7191360" y="3975120"/>
            <a:ext cx="2095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Open Arduino 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925560" y="5837400"/>
            <a:ext cx="7715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New Features: Even if your device (PBOT) is OFF you can upload the c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Connect the USB cable to your laptop and into the dev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5"/>
          <p:cNvSpPr/>
          <p:nvPr/>
        </p:nvSpPr>
        <p:spPr>
          <a:xfrm>
            <a:off x="773280" y="1341360"/>
            <a:ext cx="807696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Board Sel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849240" y="1417680"/>
            <a:ext cx="771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New Features! PBOT UNO has ATMEGA328P or ARDUINO UNO compat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8" descr="C:\Users\AMOR\Pictures\Screenshots\Screenshot (88).png"/>
          <p:cNvPicPr/>
          <p:nvPr/>
        </p:nvPicPr>
        <p:blipFill>
          <a:blip r:embed="rId1"/>
          <a:stretch/>
        </p:blipFill>
        <p:spPr>
          <a:xfrm>
            <a:off x="1001880" y="2408400"/>
            <a:ext cx="7270560" cy="19810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1001880" y="4770360"/>
            <a:ext cx="771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Tools&gt; Board&gt;Arduino AVR Boards&gt;Arduino U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773280" y="5684760"/>
            <a:ext cx="807696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773280" y="1341360"/>
            <a:ext cx="807696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Select the 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849240" y="1417680"/>
            <a:ext cx="771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New Features! Serial Port detects if connected while the device is O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001880" y="4770360"/>
            <a:ext cx="771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Tools&gt; Port&gt; COM #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9" descr="C:\Users\AMOR\Pictures\Screenshots\Screenshot (89).png"/>
          <p:cNvPicPr/>
          <p:nvPr/>
        </p:nvPicPr>
        <p:blipFill>
          <a:blip r:embed="rId1"/>
          <a:stretch/>
        </p:blipFill>
        <p:spPr>
          <a:xfrm>
            <a:off x="1306440" y="2332080"/>
            <a:ext cx="6585120" cy="1066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849240" y="5761080"/>
            <a:ext cx="771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Troublesho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No port? – Install first the Prolific Driv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r go to Device Manager&gt; Scan for new devi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7" descr="C:\Users\AMOR\Pictures\Screenshots\Screenshot (87).png"/>
          <p:cNvPicPr/>
          <p:nvPr/>
        </p:nvPicPr>
        <p:blipFill>
          <a:blip r:embed="rId1"/>
          <a:stretch/>
        </p:blipFill>
        <p:spPr>
          <a:xfrm>
            <a:off x="1001880" y="2179800"/>
            <a:ext cx="3352680" cy="19954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Uploading PBotLine.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5472000" y="7920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For line follo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18960" y="1157400"/>
            <a:ext cx="52959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n the Arduino 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1. Line Follower c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File&gt;Examples&gt;eGizmo_Pbot_Uno&gt;PBot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92040" y="4389480"/>
            <a:ext cx="535464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2. Board sel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Tools&gt;Boards&gt;Arduino AVR Boards&gt; Arduino U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264360" y="1871640"/>
            <a:ext cx="33843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3. Port sel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Tools&gt;Port&gt;COM#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elect the correc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Device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you're not 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 flipH="1">
            <a:off x="4506840" y="3246480"/>
            <a:ext cx="426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2830680" y="3170160"/>
            <a:ext cx="1641240" cy="228600"/>
          </a:xfrm>
          <a:prstGeom prst="roundRect">
            <a:avLst>
              <a:gd name="adj" fmla="val 579"/>
            </a:avLst>
          </a:prstGeom>
          <a:noFill/>
          <a:ln w="183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8" descr="C:\Users\AMOR\Pictures\Screenshots\Screenshot (88).png"/>
          <p:cNvPicPr/>
          <p:nvPr/>
        </p:nvPicPr>
        <p:blipFill>
          <a:blip r:embed="rId2"/>
          <a:stretch/>
        </p:blipFill>
        <p:spPr>
          <a:xfrm>
            <a:off x="1077840" y="5227560"/>
            <a:ext cx="7270920" cy="1981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C:\Users\AMOR\Pictures\Screenshots\Screenshot (89).png"/>
          <p:cNvPicPr/>
          <p:nvPr/>
        </p:nvPicPr>
        <p:blipFill>
          <a:blip r:embed="rId3"/>
          <a:stretch/>
        </p:blipFill>
        <p:spPr>
          <a:xfrm>
            <a:off x="5268960" y="3398760"/>
            <a:ext cx="470376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LINE SEN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5256360" y="8985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CALIBRATION1,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57120" y="1119240"/>
            <a:ext cx="56912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1. After uploading your code for linesenso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Turn OFF the POWER swi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152360" y="3560760"/>
            <a:ext cx="3076920" cy="9907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360360" y="2952720"/>
            <a:ext cx="569124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2. Place the eGizmo PBOT controller to the "bl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line"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1728720" y="1668600"/>
            <a:ext cx="1382760" cy="11761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647640" y="2268360"/>
            <a:ext cx="1008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400" spc="-1" strike="noStrike">
                <a:solidFill>
                  <a:srgbClr val="000000"/>
                </a:solidFill>
                <a:latin typeface="Arial"/>
              </a:rPr>
              <a:t>Turn Of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92000" y="3564000"/>
            <a:ext cx="39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720720" y="5724360"/>
            <a:ext cx="396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"/>
          <p:cNvPicPr/>
          <p:nvPr/>
        </p:nvPicPr>
        <p:blipFill>
          <a:blip r:embed="rId3"/>
          <a:stretch/>
        </p:blipFill>
        <p:spPr>
          <a:xfrm>
            <a:off x="6621480" y="2390760"/>
            <a:ext cx="998640" cy="8492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5972040" y="2535120"/>
            <a:ext cx="409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7701120" y="2751120"/>
            <a:ext cx="1011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400" spc="-1" strike="noStrike">
                <a:solidFill>
                  <a:srgbClr val="000000"/>
                </a:solidFill>
                <a:latin typeface="Arial"/>
              </a:rPr>
              <a:t>Turn 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647640" y="4824360"/>
            <a:ext cx="569124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ress and Hold LINE CAL and SYS RS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hile pressing and holding the button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5688000" y="2016000"/>
            <a:ext cx="403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Turn ON the POWER Switc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5" descr=""/>
          <p:cNvPicPr/>
          <p:nvPr/>
        </p:nvPicPr>
        <p:blipFill>
          <a:blip r:embed="rId4"/>
          <a:stretch/>
        </p:blipFill>
        <p:spPr>
          <a:xfrm>
            <a:off x="1284120" y="5734080"/>
            <a:ext cx="3611880" cy="1143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5724360" y="3743280"/>
            <a:ext cx="4032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LN2 (D12 LED indicator) is 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5"/>
          <a:stretch/>
        </p:blipFill>
        <p:spPr>
          <a:xfrm>
            <a:off x="6802560" y="4208400"/>
            <a:ext cx="1333440" cy="12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LINE SEN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5759280" y="754200"/>
            <a:ext cx="90712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CALIBRATION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573120" y="1585800"/>
            <a:ext cx="53528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3. First RELEASE the SYS RST followed by LINE C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Make sure the 3CH Line sensors are faces on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"black line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789120" y="4319640"/>
            <a:ext cx="4035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and you will see the LN1 and LN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(D11 and D13 LED indicators) 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Turn ON and LN1 is blink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829480" y="3511440"/>
            <a:ext cx="4035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Now Press LINE CAL 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for the black color calib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1368360" y="2606760"/>
            <a:ext cx="3551400" cy="1568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2"/>
          <a:stretch/>
        </p:blipFill>
        <p:spPr>
          <a:xfrm>
            <a:off x="1800360" y="5400720"/>
            <a:ext cx="1333440" cy="149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3"/>
          <a:stretch/>
        </p:blipFill>
        <p:spPr>
          <a:xfrm>
            <a:off x="5616720" y="4329000"/>
            <a:ext cx="3611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LINE SEN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5256360" y="7920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CALIBRATION 4,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440000" y="4089240"/>
            <a:ext cx="2879640" cy="951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1139760" y="6058080"/>
            <a:ext cx="3611520" cy="1143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428760" y="1370160"/>
            <a:ext cx="47941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4. Next, if the L3 (D13 LED indicator) is blink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3"/>
          <a:stretch/>
        </p:blipFill>
        <p:spPr>
          <a:xfrm>
            <a:off x="1944720" y="1728720"/>
            <a:ext cx="1333440" cy="1263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396720" y="3456000"/>
            <a:ext cx="5158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lace the 3CH Line sensors on the "White track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720720" y="5257800"/>
            <a:ext cx="4145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Then Press LINE CAL again once for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hite color calib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5975280" y="2270160"/>
            <a:ext cx="4035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After that you will see all the L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for linesensors are ON then it wi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turn Off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4"/>
          <a:stretch/>
        </p:blipFill>
        <p:spPr>
          <a:xfrm>
            <a:off x="7101000" y="3392640"/>
            <a:ext cx="1287360" cy="12873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1"/>
          <p:cNvSpPr/>
          <p:nvPr/>
        </p:nvSpPr>
        <p:spPr>
          <a:xfrm>
            <a:off x="5724360" y="5111640"/>
            <a:ext cx="41403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5. Now your eGizmo PBOT Controll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Linesensors  are calibrated. T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ress the RESET button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witch off and turn ON ag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You can now  trace the line and D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6825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3399ff"/>
                </a:solidFill>
                <a:latin typeface="Geometr415 Blk BT"/>
              </a:rPr>
              <a:t>LINE FOLLOWER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152360" y="2016000"/>
            <a:ext cx="383544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LS1_LEFT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LS2_CENTER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LS3_RIGHT</a:t>
            </a:r>
            <a:r>
              <a:rPr b="1" lang="en-PH" sz="1800" spc="-1" strike="noStrike">
                <a:solidFill>
                  <a:srgbClr val="990000"/>
                </a:solidFill>
                <a:latin typeface="Bahnschrift"/>
              </a:rPr>
              <a:t>(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PH" sz="1800" spc="-1" strike="noStrike">
                <a:solidFill>
                  <a:srgbClr val="996600"/>
                </a:solidFill>
                <a:latin typeface="Bahnschrift"/>
              </a:rPr>
              <a:t>WHITE LINE DETECTED = 0 or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BLACK LINE DETECTED = 1 or HI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230480" y="5151600"/>
            <a:ext cx="651024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EXAMPL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(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LS2_CENTER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== HIGH) //  if line sensor 2 center is hi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erial.println(“Black line detected!”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335640" y="2044800"/>
            <a:ext cx="2519280" cy="1195200"/>
          </a:xfrm>
          <a:prstGeom prst="rect">
            <a:avLst/>
          </a:prstGeom>
          <a:ln w="0">
            <a:noFill/>
          </a:ln>
        </p:spPr>
      </p:pic>
      <p:sp>
        <p:nvSpPr>
          <p:cNvPr id="190" name="Line 5"/>
          <p:cNvSpPr/>
          <p:nvPr/>
        </p:nvSpPr>
        <p:spPr>
          <a:xfrm flipV="1">
            <a:off x="6119640" y="3228840"/>
            <a:ext cx="50328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6"/>
          <p:cNvSpPr/>
          <p:nvPr/>
        </p:nvSpPr>
        <p:spPr>
          <a:xfrm flipV="1">
            <a:off x="7632720" y="3228840"/>
            <a:ext cx="144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 flipV="1">
            <a:off x="8629560" y="3228840"/>
            <a:ext cx="525600" cy="45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5749920" y="3672000"/>
            <a:ext cx="585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LS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343640" y="3887640"/>
            <a:ext cx="586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LS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8928000" y="3743280"/>
            <a:ext cx="760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LS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1" descr=""/>
          <p:cNvPicPr/>
          <p:nvPr/>
        </p:nvPicPr>
        <p:blipFill>
          <a:blip r:embed="rId2"/>
          <a:stretch/>
        </p:blipFill>
        <p:spPr>
          <a:xfrm>
            <a:off x="493560" y="169920"/>
            <a:ext cx="274644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216000" y="2160720"/>
            <a:ext cx="4174920" cy="31082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MO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24000" y="7920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ffcc00"/>
                </a:solidFill>
                <a:latin typeface="Geometr415 Blk BT"/>
              </a:rPr>
              <a:t>CONNECTION S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265720" y="2054160"/>
            <a:ext cx="50292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MOTOR WIRE CONNECTIONS (P2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MOT 1 – 1A,1B ; MOT2 – 2A,2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4716360" y="2160720"/>
            <a:ext cx="333360" cy="14436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5616720" y="2952720"/>
            <a:ext cx="2832120" cy="40323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7"/>
          <p:cNvSpPr/>
          <p:nvPr/>
        </p:nvSpPr>
        <p:spPr>
          <a:xfrm>
            <a:off x="4608360" y="3173400"/>
            <a:ext cx="5029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MOT 1 =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Blue-Bot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Yellow-Up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4330800" y="5268960"/>
            <a:ext cx="5029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MOT 2 =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reen-Up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Black-Bot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1584360" y="6558120"/>
            <a:ext cx="50292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200" spc="-1" strike="noStrike">
                <a:solidFill>
                  <a:srgbClr val="000000"/>
                </a:solidFill>
                <a:latin typeface="Bahnschrift"/>
              </a:rPr>
              <a:t>*Please don not depends on the color of the wi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2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200" spc="-1" strike="noStrike">
                <a:solidFill>
                  <a:srgbClr val="000000"/>
                </a:solidFill>
                <a:latin typeface="Bahnschrift"/>
              </a:rPr>
              <a:t>Follow the location of i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7" descr="C:\Users\AMOR\Pictures\Screenshots\Screenshot (90).png"/>
          <p:cNvPicPr/>
          <p:nvPr/>
        </p:nvPicPr>
        <p:blipFill>
          <a:blip r:embed="rId1"/>
          <a:stretch/>
        </p:blipFill>
        <p:spPr>
          <a:xfrm>
            <a:off x="2068560" y="3017880"/>
            <a:ext cx="4495680" cy="27194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Uploading PBotMotorTest.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5472000" y="7920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Direction/Spe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773280" y="1798560"/>
            <a:ext cx="572904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n the Arduino 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1. Motor controls c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File&gt;Examples&gt;eGizmo_Pbot_UNO&gt;PbotMotor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5040360" y="4770360"/>
            <a:ext cx="1606680" cy="287280"/>
          </a:xfrm>
          <a:prstGeom prst="rect">
            <a:avLst/>
          </a:prstGeom>
          <a:noFill/>
          <a:ln w="936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6640560" y="4923000"/>
            <a:ext cx="450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3640" y="287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Pbot 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503280" y="93672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ccff"/>
                </a:solidFill>
                <a:latin typeface="Geometr415 Blk BT"/>
              </a:rPr>
              <a:t>DESCRIP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47640" y="1941480"/>
            <a:ext cx="251928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VARIAN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0000"/>
                </a:solidFill>
                <a:latin typeface="Bahnschrift"/>
              </a:rPr>
              <a:t>Pbot U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&gt; Line fol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&gt; Maze S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&gt; Sumo f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&gt;Opt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- Add wire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- Add ser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mo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795760" y="2193840"/>
            <a:ext cx="714348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it is an upgraded version Pbot UNO Atmega328P, that's all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the users to use the Arduino UNO board and add more sen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and module whatever you li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to follow the black line on the track from start to finish line. It h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digital line calibration to make it eas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to solve the maze courses, you can upload the sketch given or modif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t to remote control via wireless devices (Optiona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to fight with other opponents robots with in the ring, it has lin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utside avoida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you can add bluetooth, PS2 controller with UHF STD, Etherne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ifi to control it wireless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Built-in 4-servo slots for EGRA Robotic Ar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493560" y="169920"/>
            <a:ext cx="346572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1"/>
          <p:cNvSpPr/>
          <p:nvPr/>
        </p:nvSpPr>
        <p:spPr>
          <a:xfrm>
            <a:off x="639720" y="5761080"/>
            <a:ext cx="7680240" cy="1554120"/>
          </a:xfrm>
          <a:prstGeom prst="flowChartAlternateProcess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1640" y="32220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ff9900"/>
                </a:solidFill>
                <a:latin typeface="Geometr415 Blk BT"/>
              </a:rPr>
              <a:t>MOTOR CONTROLS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03280" y="1368360"/>
            <a:ext cx="577692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et motor direc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DIRECTION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</a:t>
            </a:r>
            <a:r>
              <a:rPr b="1" lang="en-PH" sz="1800" spc="-1" strike="noStrike">
                <a:solidFill>
                  <a:srgbClr val="666666"/>
                </a:solidFill>
                <a:latin typeface="Bahnschrift"/>
              </a:rPr>
              <a:t>whichmotor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,</a:t>
            </a:r>
            <a:r>
              <a:rPr b="1" lang="en-PH" sz="1800" spc="-1" strike="noStrike">
                <a:solidFill>
                  <a:srgbClr val="666666"/>
                </a:solidFill>
                <a:latin typeface="Bahnschrift"/>
              </a:rPr>
              <a:t>dir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he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hichmotor = MOTOR_A or MOTOR_B, MOTOR_B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dir =  MOTOR_FWD,MOTOR_R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69840" y="5832360"/>
            <a:ext cx="6591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EXAMPL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DIRECTION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(MOTOR_BOTH, MOTOR_FWD); </a:t>
            </a:r>
            <a:r>
              <a:rPr b="1" lang="en-PH" sz="1800" spc="-1" strike="noStrike">
                <a:solidFill>
                  <a:srgbClr val="999999"/>
                </a:solidFill>
                <a:latin typeface="Bahnschrift"/>
              </a:rPr>
              <a:t>// Move For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SPEED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(MOTOR_BOTH, </a:t>
            </a:r>
            <a:r>
              <a:rPr b="1" lang="en-PH" sz="1800" spc="-1" strike="noStrike">
                <a:solidFill>
                  <a:srgbClr val="ff0000"/>
                </a:solidFill>
                <a:latin typeface="Bahnschrift"/>
              </a:rPr>
              <a:t>80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528480" y="3887640"/>
            <a:ext cx="685008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et motor spe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SPEED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</a:t>
            </a:r>
            <a:r>
              <a:rPr b="1" lang="en-PH" sz="1800" spc="-1" strike="noStrike">
                <a:solidFill>
                  <a:srgbClr val="666666"/>
                </a:solidFill>
                <a:latin typeface="Bahnschrift"/>
              </a:rPr>
              <a:t>whichmotor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,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speed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he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hichmotor = MOTOR_A or MOTOR_B, MOTOR_B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peed =  0 to 255, 0 = Full Stop, 80 = Neutral,255 = High, limit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6900840" y="1441440"/>
            <a:ext cx="274644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MAZE/SU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324000" y="7920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cc33"/>
                </a:solidFill>
                <a:latin typeface="Geometr415 Blk BT"/>
              </a:rPr>
              <a:t>IR SENSORS CONN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3540240" y="2054160"/>
            <a:ext cx="2290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R RECEIVERS 38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U5, U6, U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744480" y="1871640"/>
            <a:ext cx="1919520" cy="5543640"/>
          </a:xfrm>
          <a:prstGeom prst="rect">
            <a:avLst/>
          </a:prstGeom>
          <a:ln w="0">
            <a:noFill/>
          </a:ln>
        </p:spPr>
      </p:pic>
      <p:sp>
        <p:nvSpPr>
          <p:cNvPr id="222" name="Oval 5"/>
          <p:cNvSpPr/>
          <p:nvPr/>
        </p:nvSpPr>
        <p:spPr>
          <a:xfrm>
            <a:off x="2952720" y="2054160"/>
            <a:ext cx="360360" cy="360360"/>
          </a:xfrm>
          <a:prstGeom prst="ellipse">
            <a:avLst/>
          </a:prstGeom>
          <a:noFill/>
          <a:ln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952720" y="2808360"/>
            <a:ext cx="432000" cy="287280"/>
          </a:xfrm>
          <a:prstGeom prst="leftArrow">
            <a:avLst>
              <a:gd name="adj1" fmla="val 50000"/>
              <a:gd name="adj2" fmla="val 37594"/>
            </a:avLst>
          </a:prstGeom>
          <a:noFill/>
          <a:ln w="3600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540240" y="2774880"/>
            <a:ext cx="3295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R LED TRASMI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D17, D18, D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 Distance Range: 2 – 4 in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024360" y="3995640"/>
            <a:ext cx="431640" cy="287280"/>
          </a:xfrm>
          <a:prstGeom prst="roundRect">
            <a:avLst>
              <a:gd name="adj" fmla="val 16667"/>
            </a:avLst>
          </a:prstGeom>
          <a:noFill/>
          <a:ln w="36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3527280" y="4033800"/>
            <a:ext cx="38023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R LED INDIC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COL1 (D14), COL2 (D15), COL3 (D1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if LED is ON, Object det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if LED is OFF, No object det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7" descr="C:\Users\AMOR\Pictures\Screenshots\Screenshot (91).png"/>
          <p:cNvPicPr/>
          <p:nvPr/>
        </p:nvPicPr>
        <p:blipFill>
          <a:blip r:embed="rId1"/>
          <a:stretch/>
        </p:blipFill>
        <p:spPr>
          <a:xfrm>
            <a:off x="2144880" y="3017880"/>
            <a:ext cx="5105160" cy="29955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Uploading PBotSumo.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5472000" y="7920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Sumo Fig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001880" y="1874880"/>
            <a:ext cx="501804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n the Arduino 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1. Sumo fighting c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File&gt;Examples&gt;eGizmo_PBot_Uno&gt;PBotSu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5421240" y="5532480"/>
            <a:ext cx="1905120" cy="287280"/>
          </a:xfrm>
          <a:prstGeom prst="rect">
            <a:avLst/>
          </a:prstGeom>
          <a:noFill/>
          <a:ln w="936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 flipH="1">
            <a:off x="7402680" y="5684760"/>
            <a:ext cx="450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2920" y="6825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66cc00"/>
                </a:solidFill>
                <a:latin typeface="Geometr415 Blk BT"/>
              </a:rPr>
              <a:t>IR SENSORS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1152360" y="2016000"/>
            <a:ext cx="373860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COL1_RIGHT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COL2_CENTER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COL3_LEFT</a:t>
            </a:r>
            <a:r>
              <a:rPr b="1" lang="en-PH" sz="1800" spc="-1" strike="noStrike">
                <a:solidFill>
                  <a:srgbClr val="990000"/>
                </a:solidFill>
                <a:latin typeface="Bahnschrift"/>
              </a:rPr>
              <a:t>(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PH" sz="1800" spc="-1" strike="noStrike">
                <a:solidFill>
                  <a:srgbClr val="ff9900"/>
                </a:solidFill>
                <a:latin typeface="Bahnschrift"/>
              </a:rPr>
              <a:t>NO OBJECT DETECTED = 0 or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BJECT DETECTED = 1 or HI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224000" y="5256360"/>
            <a:ext cx="64944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EXAMPL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(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COL2_CENTER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== HIGH) //  if IR sensor 2 center is hi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erial.println(“Object detected!”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5832360" y="1944720"/>
            <a:ext cx="3675240" cy="2663640"/>
          </a:xfrm>
          <a:prstGeom prst="rect">
            <a:avLst/>
          </a:prstGeom>
          <a:ln w="0">
            <a:noFill/>
          </a:ln>
        </p:spPr>
      </p:pic>
      <p:sp>
        <p:nvSpPr>
          <p:cNvPr id="237" name="Line 5"/>
          <p:cNvSpPr/>
          <p:nvPr/>
        </p:nvSpPr>
        <p:spPr>
          <a:xfrm>
            <a:off x="6983280" y="3311640"/>
            <a:ext cx="93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 flipV="1">
            <a:off x="6624720" y="1572840"/>
            <a:ext cx="50328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6767640" y="460836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7415280" y="2735280"/>
            <a:ext cx="503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1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3000" spc="-1" strike="noStrike">
                <a:solidFill>
                  <a:srgbClr val="ff3333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493560" y="169920"/>
            <a:ext cx="274644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2" descr="D:\1AAAAAAAAAAA\MY PC 2023 FILES\NEW PBOT UNO\PBOTUNO2020\NEW MODIFIED 110323\servo.png"/>
          <p:cNvPicPr/>
          <p:nvPr/>
        </p:nvPicPr>
        <p:blipFill>
          <a:blip r:embed="rId1"/>
          <a:stretch/>
        </p:blipFill>
        <p:spPr>
          <a:xfrm>
            <a:off x="7097760" y="2174760"/>
            <a:ext cx="2743200" cy="53848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SERVO MO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324000" y="7920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66ff"/>
                </a:solidFill>
                <a:latin typeface="Geometr415 Blk BT"/>
              </a:rPr>
              <a:t>CONN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4619520" y="2054160"/>
            <a:ext cx="2291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ervo labels  #1-#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3816360" y="2052720"/>
            <a:ext cx="719280" cy="360360"/>
          </a:xfrm>
          <a:prstGeom prst="ellipse">
            <a:avLst/>
          </a:prstGeom>
          <a:solidFill>
            <a:srgbClr val="6666ff"/>
          </a:solidFill>
          <a:ln w="360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4619520" y="2774880"/>
            <a:ext cx="31640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ervo connectors fr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3 - P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9" descr=""/>
          <p:cNvPicPr/>
          <p:nvPr/>
        </p:nvPicPr>
        <p:blipFill>
          <a:blip r:embed="rId2"/>
          <a:stretch/>
        </p:blipFill>
        <p:spPr>
          <a:xfrm>
            <a:off x="544680" y="1874880"/>
            <a:ext cx="3208320" cy="54212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0"/>
          <p:cNvSpPr/>
          <p:nvPr/>
        </p:nvSpPr>
        <p:spPr>
          <a:xfrm>
            <a:off x="3887640" y="2808360"/>
            <a:ext cx="576360" cy="360360"/>
          </a:xfrm>
          <a:prstGeom prst="rect">
            <a:avLst/>
          </a:prstGeom>
          <a:solidFill>
            <a:srgbClr val="ffd32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7" descr="C:\Users\AMOR\Pictures\Screenshots\Screenshot (92).png"/>
          <p:cNvPicPr/>
          <p:nvPr/>
        </p:nvPicPr>
        <p:blipFill>
          <a:blip r:embed="rId1"/>
          <a:stretch/>
        </p:blipFill>
        <p:spPr>
          <a:xfrm>
            <a:off x="1839960" y="3170160"/>
            <a:ext cx="5105520" cy="3006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Uploading PBotServo.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5472000" y="7920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Servo Contr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154160" y="2027160"/>
            <a:ext cx="60199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n the Arduino 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1. Servo c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File&gt;Examples&gt;eGizmo_Pbot_Uno&gt;PBotSer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5116680" y="5380200"/>
            <a:ext cx="1606320" cy="287280"/>
          </a:xfrm>
          <a:prstGeom prst="rect">
            <a:avLst/>
          </a:prstGeom>
          <a:noFill/>
          <a:ln w="936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6834240" y="5524560"/>
            <a:ext cx="450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2920" y="6825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3333ff"/>
                </a:solidFill>
                <a:latin typeface="Geometr415 Blk BT"/>
              </a:rPr>
              <a:t>SERVO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925560" y="2027160"/>
            <a:ext cx="373860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SERVO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whichSERVO,pulsewidth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he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hichservo = 1 to 4, ignore other val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ulsewidth =</a:t>
            </a:r>
            <a:r>
              <a:rPr b="1" lang="en-PH" sz="1800" spc="-1" strike="noStrike" u="sng">
                <a:solidFill>
                  <a:srgbClr val="000000"/>
                </a:solidFill>
                <a:uFillTx/>
                <a:latin typeface="Bahnschrift"/>
              </a:rPr>
              <a:t> 0 to 180 (degre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                              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value less than 500 stops the Servo PWM gene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                              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the pulsewidth converted to degrees from 0 to 180 (defaul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224000" y="4756320"/>
            <a:ext cx="64944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EXAMPL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SERVO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1, 15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delay(100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SERVo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1, 90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delay(100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493560" y="169920"/>
            <a:ext cx="274644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7520" y="10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Arduino Shiel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720720" y="8985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6666ff"/>
                </a:solidFill>
                <a:latin typeface="Geometr415 Blk BT"/>
              </a:rPr>
              <a:t>Accessible P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4546440" y="2741760"/>
            <a:ext cx="373248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952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O</a:t>
            </a:r>
            <a:r>
              <a:rPr b="1" lang="en-PH" sz="1800" spc="-1" strike="noStrike">
                <a:solidFill>
                  <a:srgbClr val="ff0000"/>
                </a:solidFill>
                <a:latin typeface="Bahnschrift"/>
              </a:rPr>
              <a:t>0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to IO</a:t>
            </a:r>
            <a:r>
              <a:rPr b="1" lang="en-PH" sz="1800" spc="-1" strike="noStrike">
                <a:solidFill>
                  <a:srgbClr val="ff0000"/>
                </a:solidFill>
                <a:latin typeface="Bahnschrift"/>
              </a:rPr>
              <a:t>17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(18 Digital P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952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3333ff"/>
                </a:solidFill>
                <a:latin typeface="Bahnschrift"/>
              </a:rPr>
              <a:t>A0</a:t>
            </a:r>
            <a:r>
              <a:rPr b="1" lang="en-PH" sz="1800" spc="-1" strike="noStrike">
                <a:solidFill>
                  <a:srgbClr val="111111"/>
                </a:solidFill>
                <a:latin typeface="Bahnschrift"/>
              </a:rPr>
              <a:t>-</a:t>
            </a:r>
            <a:r>
              <a:rPr b="1" lang="en-PH" sz="1800" spc="-1" strike="noStrike">
                <a:solidFill>
                  <a:srgbClr val="3333ff"/>
                </a:solidFill>
                <a:latin typeface="Bahnschrift"/>
              </a:rPr>
              <a:t>A3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(4 Analog Input p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952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* A4 and A5 are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4211640" y="2879640"/>
            <a:ext cx="333360" cy="14472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493560" y="169920"/>
            <a:ext cx="3465720" cy="1270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2"/>
          <a:stretch/>
        </p:blipFill>
        <p:spPr>
          <a:xfrm>
            <a:off x="4308480" y="182520"/>
            <a:ext cx="1087560" cy="1087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3"/>
          <a:stretch/>
        </p:blipFill>
        <p:spPr>
          <a:xfrm>
            <a:off x="606600" y="2160720"/>
            <a:ext cx="3416040" cy="422424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8"/>
          <p:cNvSpPr/>
          <p:nvPr/>
        </p:nvSpPr>
        <p:spPr>
          <a:xfrm>
            <a:off x="4405320" y="2011320"/>
            <a:ext cx="37321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952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here you can add Bluetooth Shield or 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952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nterface sh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9400" y="33987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 </a:t>
            </a: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Distance sensor pin slot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 - Hardware Serial pin s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720720" y="8985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6666ff"/>
                </a:solidFill>
                <a:latin typeface="Geometr415 Blk BT"/>
              </a:rPr>
              <a:t>Additional Features on bo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493560" y="169920"/>
            <a:ext cx="346572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C:\Users\AMOR\Downloads\distance.png"/>
          <p:cNvPicPr/>
          <p:nvPr/>
        </p:nvPicPr>
        <p:blipFill>
          <a:blip r:embed="rId1"/>
          <a:stretch/>
        </p:blipFill>
        <p:spPr>
          <a:xfrm>
            <a:off x="7097760" y="2408400"/>
            <a:ext cx="2770200" cy="30081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DISTANCE SEN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324000" y="7920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66ff"/>
                </a:solidFill>
                <a:latin typeface="Geometr415 Blk BT"/>
              </a:rPr>
              <a:t>CONN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192640" y="3551400"/>
            <a:ext cx="2290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J1 -- 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ND -- Gro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ECH -- 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TRI   -- Trig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+5V  -- V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7" descr="C:\Users\AMOR\Downloads\IMG_20231104_001545.jpg"/>
          <p:cNvPicPr/>
          <p:nvPr/>
        </p:nvPicPr>
        <p:blipFill>
          <a:blip r:embed="rId2"/>
          <a:stretch/>
        </p:blipFill>
        <p:spPr>
          <a:xfrm>
            <a:off x="-2198520" y="2027160"/>
            <a:ext cx="7119720" cy="44197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5"/>
          <p:cNvSpPr/>
          <p:nvPr/>
        </p:nvSpPr>
        <p:spPr>
          <a:xfrm>
            <a:off x="1459080" y="6523200"/>
            <a:ext cx="7715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Distance Sensor S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3592440" y="3398760"/>
            <a:ext cx="990720" cy="10670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 flipH="1">
            <a:off x="5040360" y="3475080"/>
            <a:ext cx="450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3640" y="287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Pbot 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493560" y="1041480"/>
            <a:ext cx="90712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ccff"/>
                </a:solidFill>
                <a:latin typeface="Geometr415 Blk BT"/>
              </a:rPr>
              <a:t>SPECIF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52360" y="2120760"/>
            <a:ext cx="50515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PH" sz="1800" spc="-1" strike="noStrike" u="sng">
                <a:solidFill>
                  <a:srgbClr val="000000"/>
                </a:solidFill>
                <a:uFillTx/>
                <a:latin typeface="Bahnschrift"/>
              </a:rPr>
              <a:t>General Specificati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dddddd"/>
                </a:solidFill>
                <a:latin typeface="Bahnschrift"/>
              </a:rPr>
              <a:t>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Battery: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(2)3.7V Li-ion 1000m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  <a:ea typeface="Microsoft YaHei"/>
              </a:rPr>
              <a:t>rechargeable w/ pro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On-board Peripheral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IC </a:t>
            </a:r>
            <a:r>
              <a:rPr b="1" lang="en-PH" sz="1800" spc="-1" strike="noStrike" u="sng">
                <a:solidFill>
                  <a:srgbClr val="000000"/>
                </a:solidFill>
                <a:uFillTx/>
                <a:latin typeface="Bahnschrift"/>
              </a:rPr>
              <a:t>Atmega328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w/ 32KB Flash 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(Original ATMEL IC ATA6614Q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IC L9110S Dual Channel PWM Motor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2-Ch DC Motor 6V geared 1.5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3-Ch IR line sensor CNY70,10mm r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3-Ch IR proximity sensor 2-4inches r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1 slot for HC-SR04 Ultrason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Distance Sen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1 slot for Wireless module conn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Via Serial Communication (e.g Bluetoot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CB Dimensions: 62 mm x 67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* </a:t>
            </a:r>
            <a:r>
              <a:rPr b="1" i="1" lang="en-PH" sz="1800" spc="-1" strike="noStrike" u="sng">
                <a:solidFill>
                  <a:srgbClr val="000000"/>
                </a:solidFill>
                <a:uFillTx/>
                <a:latin typeface="Bahnschrift"/>
              </a:rPr>
              <a:t>Note: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Analog pins A4 and A5 are used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nterface with the system controller, h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are not available for user shields/applic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93560" y="169920"/>
            <a:ext cx="3465720" cy="1270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5040360" y="2216160"/>
            <a:ext cx="470700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PH" sz="1800" spc="-1" strike="noStrike" u="sng">
                <a:solidFill>
                  <a:srgbClr val="000000"/>
                </a:solidFill>
                <a:uFillTx/>
                <a:latin typeface="Bahnschrift"/>
              </a:rPr>
              <a:t>Featu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Efficient Motor Driver circuitry en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the operation of motor to its maximum 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at the same time eliminating the need f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an heatsin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On board 4 ch servo motor driver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Sensor managed by independent control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Collision sensor are pulsed to saved batt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o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Line sensors are digitally calibrated ma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calibration process delightfully ea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</a:t>
            </a:r>
            <a:r>
              <a:rPr b="1" lang="en-PH" sz="1800" spc="-1" strike="noStrike" u="sng">
                <a:solidFill>
                  <a:srgbClr val="000000"/>
                </a:solidFill>
                <a:uFillTx/>
                <a:latin typeface="Bahnschrift"/>
              </a:rPr>
              <a:t>Arduino UNO Compat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Program it using Arduino IDE 100%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compat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</a:t>
            </a:r>
            <a:r>
              <a:rPr b="1" lang="en-PH" sz="1800" spc="-1" strike="noStrike" u="sng">
                <a:solidFill>
                  <a:srgbClr val="000000"/>
                </a:solidFill>
                <a:uFillTx/>
                <a:latin typeface="Bahnschrift"/>
              </a:rPr>
              <a:t>2-3 hours full 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</a:t>
            </a:r>
            <a:r>
              <a:rPr b="1" lang="en-PH" sz="1800" spc="-1" strike="noStrike" u="sng">
                <a:solidFill>
                  <a:srgbClr val="000000"/>
                </a:solidFill>
                <a:uFillTx/>
                <a:latin typeface="Bahnschrift"/>
              </a:rPr>
              <a:t>Arduino external I/O pin l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ayout allows you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lug in any Arduino compatible Shield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5094360" y="1152360"/>
            <a:ext cx="102528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C:\Users\AMOR\Pictures\Screenshots\Screenshot (93).png"/>
          <p:cNvPicPr/>
          <p:nvPr/>
        </p:nvPicPr>
        <p:blipFill>
          <a:blip r:embed="rId1"/>
          <a:stretch/>
        </p:blipFill>
        <p:spPr>
          <a:xfrm>
            <a:off x="2525760" y="3322800"/>
            <a:ext cx="4995720" cy="28954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Uploading PBotDistanceSensor.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5472000" y="7920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Distance Sens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154160" y="2027160"/>
            <a:ext cx="60199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n the Arduino 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1. Distance sensor c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File&gt;Examples&gt;eGizmo_Pbot_Uno&gt;PBotDistanceSen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5802480" y="3855960"/>
            <a:ext cx="1606320" cy="287280"/>
          </a:xfrm>
          <a:prstGeom prst="rect">
            <a:avLst/>
          </a:prstGeom>
          <a:noFill/>
          <a:ln w="936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9"/>
          <p:cNvSpPr/>
          <p:nvPr/>
        </p:nvSpPr>
        <p:spPr>
          <a:xfrm flipH="1">
            <a:off x="7520040" y="4000680"/>
            <a:ext cx="450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2920" y="6825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3333ff"/>
                </a:solidFill>
                <a:latin typeface="Geometr415 Blk BT"/>
              </a:rPr>
              <a:t>DISTANCE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1152360" y="2016000"/>
            <a:ext cx="373860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DISTANCE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he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	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	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Reading the distance sen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RANG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he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	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	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etting the data in Centimeter/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224000" y="4756320"/>
            <a:ext cx="64944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EXAMPL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DISTANCE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erial.print(“Measure in cm = “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erial.println(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RANGE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delay(1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493560" y="169920"/>
            <a:ext cx="274644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BT CONTROLLED via Se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7920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66ff"/>
                </a:solidFill>
                <a:latin typeface="Geometr415 Blk BT"/>
              </a:rPr>
              <a:t>CONN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154160" y="4694400"/>
            <a:ext cx="2290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IRELESS – 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RXD --  Recei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TXD  -- Transmit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ND -- Gro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+5V  –- V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7" descr="C:\Users\AMOR\Downloads\IMG_20231104_001545.jpg"/>
          <p:cNvPicPr/>
          <p:nvPr/>
        </p:nvPicPr>
        <p:blipFill>
          <a:blip r:embed="rId1"/>
          <a:stretch/>
        </p:blipFill>
        <p:spPr>
          <a:xfrm>
            <a:off x="5345280" y="2637000"/>
            <a:ext cx="7119720" cy="44193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6"/>
          <p:cNvSpPr/>
          <p:nvPr/>
        </p:nvSpPr>
        <p:spPr>
          <a:xfrm>
            <a:off x="4964040" y="4618080"/>
            <a:ext cx="990720" cy="1066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3814920" y="4923000"/>
            <a:ext cx="99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2" descr="C:\Users\AMOR\Downloads\Bluetooth.png"/>
          <p:cNvPicPr/>
          <p:nvPr/>
        </p:nvPicPr>
        <p:blipFill>
          <a:blip r:embed="rId2"/>
          <a:stretch/>
        </p:blipFill>
        <p:spPr>
          <a:xfrm>
            <a:off x="620640" y="1874880"/>
            <a:ext cx="4335480" cy="26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C:\Users\AMOR\Pictures\Screenshots\Screenshot (94).png"/>
          <p:cNvPicPr/>
          <p:nvPr/>
        </p:nvPicPr>
        <p:blipFill>
          <a:blip r:embed="rId1"/>
          <a:stretch/>
        </p:blipFill>
        <p:spPr>
          <a:xfrm>
            <a:off x="2220840" y="3398760"/>
            <a:ext cx="5029200" cy="29116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Uploading PBotBTControlled.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4964040" y="8841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Wireless Conn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154160" y="2027160"/>
            <a:ext cx="60199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n the Arduino 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1. Bluetooth Control c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File&gt;Examples&gt;eGizmo_Pbot_Uno&gt;PBotBTControl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497560" y="3627360"/>
            <a:ext cx="1606680" cy="287280"/>
          </a:xfrm>
          <a:prstGeom prst="rect">
            <a:avLst/>
          </a:prstGeom>
          <a:noFill/>
          <a:ln w="936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9"/>
          <p:cNvSpPr/>
          <p:nvPr/>
        </p:nvSpPr>
        <p:spPr>
          <a:xfrm flipH="1">
            <a:off x="7214760" y="3772080"/>
            <a:ext cx="451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2920" y="6825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3333ff"/>
                </a:solidFill>
                <a:latin typeface="Geometr415 Blk BT"/>
              </a:rPr>
              <a:t>BLUETOOTH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"/>
          <p:cNvSpPr/>
          <p:nvPr/>
        </p:nvSpPr>
        <p:spPr>
          <a:xfrm>
            <a:off x="1154160" y="1722600"/>
            <a:ext cx="3738600" cy="25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Byte INPUT_FROM_ANDROID_AP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//Main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(Serial.available() &gt; 0)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NPUT_FROM_ANDROID_APP = Serial.rea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erial.println(INPUT_FROM_ANDROID_AP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154160" y="4389480"/>
            <a:ext cx="64944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EXAMPL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(INPUT_FROM_ANDROID_APP == 11) { } //UP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(INPUT_FROM_ANDROID_APP == 12) { } //DOWN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(INPUT_FROM_ANDROID_APP == 13) { } //LEFT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(INPUT_FROM_ANDROID_APP == 14) { } //RIGHT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(INPUT_FROM_ANDROID_APP == 0) { } //STOP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(INPUT_FROM_ANDROID_APP == 17) { } //KICK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(INPUT_FROM_ANDROID_APP == 18) {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(INPUT_FROM_ANDROID_APP == 15) {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(INPUT_FROM_ANDROID_APP == 16) {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tretch/>
        </p:blipFill>
        <p:spPr>
          <a:xfrm>
            <a:off x="493560" y="169920"/>
            <a:ext cx="274644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1123920" y="4319640"/>
            <a:ext cx="51404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06280" indent="-2062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06280"/>
                <a:tab algn="l" pos="663480"/>
                <a:tab algn="l" pos="1120680"/>
                <a:tab algn="l" pos="1577880"/>
                <a:tab algn="l" pos="2035080"/>
                <a:tab algn="l" pos="2492280"/>
                <a:tab algn="l" pos="2949480"/>
                <a:tab algn="l" pos="3406680"/>
                <a:tab algn="l" pos="3863880"/>
                <a:tab algn="l" pos="4321080"/>
                <a:tab algn="l" pos="4778280"/>
                <a:tab algn="l" pos="5235480"/>
                <a:tab algn="l" pos="5692680"/>
                <a:tab algn="l" pos="6149880"/>
                <a:tab algn="l" pos="6607080"/>
                <a:tab algn="l" pos="7064280"/>
                <a:tab algn="l" pos="7521480"/>
                <a:tab algn="l" pos="7978680"/>
                <a:tab algn="l" pos="8435880"/>
                <a:tab algn="l" pos="889308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ebsite:</a:t>
            </a:r>
            <a:r>
              <a:rPr b="1" lang="en-PH" sz="1800" spc="-1" strike="noStrike">
                <a:solidFill>
                  <a:srgbClr val="1c1c1c"/>
                </a:solidFill>
                <a:latin typeface="Bahnschrift"/>
              </a:rPr>
              <a:t> https://www.e-gizmo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6280" indent="-206280">
              <a:lnSpc>
                <a:spcPct val="100000"/>
              </a:lnSpc>
              <a:tabLst>
                <a:tab algn="l" pos="0"/>
                <a:tab algn="l" pos="206280"/>
                <a:tab algn="l" pos="663480"/>
                <a:tab algn="l" pos="1120680"/>
                <a:tab algn="l" pos="1577880"/>
                <a:tab algn="l" pos="2035080"/>
                <a:tab algn="l" pos="2492280"/>
                <a:tab algn="l" pos="2949480"/>
                <a:tab algn="l" pos="3406680"/>
                <a:tab algn="l" pos="3863880"/>
                <a:tab algn="l" pos="4321080"/>
                <a:tab algn="l" pos="4778280"/>
                <a:tab algn="l" pos="5235480"/>
                <a:tab algn="l" pos="5692680"/>
                <a:tab algn="l" pos="6149880"/>
                <a:tab algn="l" pos="6607080"/>
                <a:tab algn="l" pos="7064280"/>
                <a:tab algn="l" pos="7521480"/>
                <a:tab algn="l" pos="7978680"/>
                <a:tab algn="l" pos="8435880"/>
                <a:tab algn="l" pos="889308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Egizmo Tech blog:</a:t>
            </a:r>
            <a:r>
              <a:rPr b="1" lang="en-PH" sz="1800" spc="-1" strike="noStrike">
                <a:solidFill>
                  <a:srgbClr val="ccccff"/>
                </a:solidFill>
                <a:latin typeface="Bahnschrift"/>
              </a:rPr>
              <a:t>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https://www.</a:t>
            </a:r>
            <a:r>
              <a:rPr b="1" lang="en-PH" sz="1800" spc="-1" strike="noStrike">
                <a:solidFill>
                  <a:srgbClr val="333333"/>
                </a:solidFill>
                <a:latin typeface="Bahnschrift"/>
              </a:rPr>
              <a:t>e-gizmo.net/oc/index.php?route=journal3/b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6280" indent="-2062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06280"/>
                <a:tab algn="l" pos="663480"/>
                <a:tab algn="l" pos="1120680"/>
                <a:tab algn="l" pos="1577880"/>
                <a:tab algn="l" pos="2035080"/>
                <a:tab algn="l" pos="2492280"/>
                <a:tab algn="l" pos="2949480"/>
                <a:tab algn="l" pos="3406680"/>
                <a:tab algn="l" pos="3863880"/>
                <a:tab algn="l" pos="4321080"/>
                <a:tab algn="l" pos="4778280"/>
                <a:tab algn="l" pos="5235480"/>
                <a:tab algn="l" pos="5692680"/>
                <a:tab algn="l" pos="6149880"/>
                <a:tab algn="l" pos="6607080"/>
                <a:tab algn="l" pos="7064280"/>
                <a:tab algn="l" pos="7521480"/>
                <a:tab algn="l" pos="7978680"/>
                <a:tab algn="l" pos="8435880"/>
                <a:tab algn="l" pos="889308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Facebook: https://www.facebook.com/eGizmoMechatro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6280" indent="-2062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06280"/>
                <a:tab algn="l" pos="663480"/>
                <a:tab algn="l" pos="1120680"/>
                <a:tab algn="l" pos="1577880"/>
                <a:tab algn="l" pos="2035080"/>
                <a:tab algn="l" pos="2492280"/>
                <a:tab algn="l" pos="2949480"/>
                <a:tab algn="l" pos="3406680"/>
                <a:tab algn="l" pos="3863880"/>
                <a:tab algn="l" pos="4321080"/>
                <a:tab algn="l" pos="4778280"/>
                <a:tab algn="l" pos="5235480"/>
                <a:tab algn="l" pos="5692680"/>
                <a:tab algn="l" pos="6149880"/>
                <a:tab algn="l" pos="6607080"/>
                <a:tab algn="l" pos="7064280"/>
                <a:tab algn="l" pos="7521480"/>
                <a:tab algn="l" pos="7978680"/>
                <a:tab algn="l" pos="8435880"/>
                <a:tab algn="l" pos="889308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Youtube Channel: e-Gizmo Mechatronix Cent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6280" indent="-206280">
              <a:lnSpc>
                <a:spcPct val="100000"/>
              </a:lnSpc>
              <a:tabLst>
                <a:tab algn="l" pos="0"/>
                <a:tab algn="l" pos="206280"/>
                <a:tab algn="l" pos="663480"/>
                <a:tab algn="l" pos="1120680"/>
                <a:tab algn="l" pos="1577880"/>
                <a:tab algn="l" pos="2035080"/>
                <a:tab algn="l" pos="2492280"/>
                <a:tab algn="l" pos="2949480"/>
                <a:tab algn="l" pos="3406680"/>
                <a:tab algn="l" pos="3863880"/>
                <a:tab algn="l" pos="4321080"/>
                <a:tab algn="l" pos="4778280"/>
                <a:tab algn="l" pos="5235480"/>
                <a:tab algn="l" pos="5692680"/>
                <a:tab algn="l" pos="6149880"/>
                <a:tab algn="l" pos="6607080"/>
                <a:tab algn="l" pos="7064280"/>
                <a:tab algn="l" pos="7521480"/>
                <a:tab algn="l" pos="7978680"/>
                <a:tab algn="l" pos="8435880"/>
                <a:tab algn="l" pos="889308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2336760" y="2087640"/>
            <a:ext cx="2746440" cy="10065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1908000" y="3017880"/>
            <a:ext cx="1087560" cy="1087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4"/>
          <p:cNvSpPr/>
          <p:nvPr/>
        </p:nvSpPr>
        <p:spPr>
          <a:xfrm>
            <a:off x="3090960" y="276084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For more inf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2039760" y="1224000"/>
            <a:ext cx="7680600" cy="6369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63640" y="287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PBOT BOARD</a:t>
            </a:r>
            <a:br>
              <a:rPr sz="4400"/>
            </a:b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03280" y="93672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MAJOR PA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493560" y="169920"/>
            <a:ext cx="3465720" cy="1270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144360" y="1339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63640" y="287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PBOT BOARD</a:t>
            </a:r>
            <a:br>
              <a:rPr sz="4400"/>
            </a:b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ac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503280" y="93672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Batte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493560" y="169920"/>
            <a:ext cx="3465720" cy="127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144360" y="1339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:\Users\AMOR\Downloads\IMG_20231104_001545.jpg"/>
          <p:cNvPicPr/>
          <p:nvPr/>
        </p:nvPicPr>
        <p:blipFill>
          <a:blip r:embed="rId3"/>
          <a:stretch/>
        </p:blipFill>
        <p:spPr>
          <a:xfrm>
            <a:off x="1687680" y="2027160"/>
            <a:ext cx="7119720" cy="4419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1459080" y="6446880"/>
            <a:ext cx="771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t has now 2x slot for 3.7V Li-ion battery = 7.4V power supp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FF : Parallel batteries 3.7v to charge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N: Series batteries 7.4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1382760" y="3627360"/>
            <a:ext cx="1143000" cy="26672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63640" y="287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PBOT BOARD</a:t>
            </a:r>
            <a:br>
              <a:rPr sz="4400"/>
            </a:b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ac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03280" y="93672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Motor Driver L9110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493560" y="169920"/>
            <a:ext cx="3465720" cy="1270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144360" y="1339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C:\Users\AMOR\Downloads\IMG_20231104_001545.jpg"/>
          <p:cNvPicPr/>
          <p:nvPr/>
        </p:nvPicPr>
        <p:blipFill>
          <a:blip r:embed="rId3"/>
          <a:stretch/>
        </p:blipFill>
        <p:spPr>
          <a:xfrm>
            <a:off x="1687680" y="2027160"/>
            <a:ext cx="7119720" cy="4419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459080" y="6523200"/>
            <a:ext cx="7715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Modified L9110s 2-Channel Motor Driver with LED indicato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2830680" y="1951200"/>
            <a:ext cx="1371600" cy="1371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68360" y="10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LINE SEN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720720" y="8985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ccff"/>
                </a:solidFill>
                <a:latin typeface="Geometr415 Blk BT"/>
              </a:rPr>
              <a:t>LINE FOLLOWER CONN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546440" y="2741760"/>
            <a:ext cx="373248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LINE SENSORS CONNECTION (P7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                    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ND,DRV,LN3,LN2,LN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57720" y="5327640"/>
            <a:ext cx="269064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LINE SENSOR ARRA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0000"/>
                </a:solidFill>
                <a:latin typeface="Bahnschrift"/>
              </a:rPr>
              <a:t>3 channel Line se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396720" y="1816200"/>
            <a:ext cx="3630600" cy="53118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546440" y="2054160"/>
            <a:ext cx="50292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LINE CAL –</a:t>
            </a:r>
            <a:r>
              <a:rPr b="1" lang="en-PH" sz="1200" spc="-1" strike="noStrike">
                <a:solidFill>
                  <a:srgbClr val="000000"/>
                </a:solidFill>
                <a:latin typeface="Bahnschrift"/>
              </a:rPr>
              <a:t> </a:t>
            </a:r>
            <a:r>
              <a:rPr b="1" lang="en-PH" sz="1400" spc="-1" strike="noStrike">
                <a:solidFill>
                  <a:srgbClr val="000000"/>
                </a:solidFill>
                <a:latin typeface="Bahnschrift"/>
              </a:rPr>
              <a:t>for making line sensor calibrated as eas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400" spc="-1" strike="noStrike">
                <a:solidFill>
                  <a:srgbClr val="000000"/>
                </a:solidFill>
                <a:latin typeface="Bahnschrift"/>
              </a:rPr>
              <a:t>                                    </a:t>
            </a:r>
            <a:r>
              <a:rPr b="1" lang="en-PH" sz="1400" spc="-1" strike="noStrike">
                <a:solidFill>
                  <a:srgbClr val="000000"/>
                </a:solidFill>
                <a:latin typeface="Bahnschrift"/>
              </a:rPr>
              <a:t>(to calibrate, read the page 9-11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4211640" y="2160720"/>
            <a:ext cx="333360" cy="144360"/>
          </a:xfrm>
          <a:prstGeom prst="roundRect">
            <a:avLst>
              <a:gd name="adj" fmla="val 16667"/>
            </a:avLst>
          </a:prstGeom>
          <a:solidFill>
            <a:srgbClr val="ff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4211640" y="2879640"/>
            <a:ext cx="333360" cy="14472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4211640" y="3780000"/>
            <a:ext cx="333360" cy="144360"/>
          </a:xfrm>
          <a:prstGeom prst="roundRect">
            <a:avLst>
              <a:gd name="adj" fmla="val 16667"/>
            </a:avLst>
          </a:prstGeom>
          <a:solidFill>
            <a:srgbClr val="ffd32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0" y="3676680"/>
            <a:ext cx="3922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LINE SENSOR LED INDIC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LN3(D13), LN2(D12),LN1(D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if LED is ON, black color det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if LED is OFF, white color det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1" descr=""/>
          <p:cNvPicPr/>
          <p:nvPr/>
        </p:nvPicPr>
        <p:blipFill>
          <a:blip r:embed="rId2"/>
          <a:stretch/>
        </p:blipFill>
        <p:spPr>
          <a:xfrm>
            <a:off x="7129440" y="4967280"/>
            <a:ext cx="2411280" cy="244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3"/>
          <a:stretch/>
        </p:blipFill>
        <p:spPr>
          <a:xfrm>
            <a:off x="493560" y="169920"/>
            <a:ext cx="346572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Softwares and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60360" y="1685880"/>
            <a:ext cx="90709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Arduino IDE</a:t>
            </a:r>
            <a:br>
              <a:rPr sz="4400"/>
            </a:br>
            <a:br>
              <a:rPr sz="4400"/>
            </a:b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Drivers </a:t>
            </a:r>
            <a:r>
              <a:rPr b="0" lang="en-PH" sz="2000" spc="-1" strike="noStrike">
                <a:solidFill>
                  <a:srgbClr val="66ccff"/>
                </a:solidFill>
                <a:latin typeface="Geometr415 Blk BT"/>
              </a:rPr>
              <a:t>Install this first!</a:t>
            </a:r>
            <a:br>
              <a:rPr sz="4400"/>
            </a:br>
            <a:br>
              <a:rPr sz="4400"/>
            </a:b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Library </a:t>
            </a:r>
            <a:r>
              <a:rPr b="0" lang="en-PH" sz="2000" spc="-1" strike="noStrike">
                <a:solidFill>
                  <a:srgbClr val="66ccff"/>
                </a:solidFill>
                <a:latin typeface="Geometr415 Blk BT"/>
              </a:rPr>
              <a:t>Add to My Documents&gt;Arduino&gt;libra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90520" y="2236680"/>
            <a:ext cx="669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</a:t>
            </a:r>
            <a:r>
              <a:rPr b="0" lang="en-PH" sz="1800" spc="-1" strike="noStrike" u="sng">
                <a:solidFill>
                  <a:srgbClr val="ccccff"/>
                </a:solidFill>
                <a:uFillTx/>
                <a:latin typeface="Bahnschrift"/>
                <a:hlinkClick r:id="rId1"/>
              </a:rPr>
              <a:t>www.arduino.cc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&gt;Softw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Choose your Arduino IDE for your 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60360" y="3600360"/>
            <a:ext cx="669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800" spc="-1" strike="noStrike" u="sng">
                <a:solidFill>
                  <a:srgbClr val="ccccff"/>
                </a:solidFill>
                <a:uFillTx/>
                <a:latin typeface="Bahnschrift"/>
                <a:hlinkClick r:id="rId2"/>
              </a:rPr>
              <a:t>www.e-gizmo.net/oc/kits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documents/ARDUINO IDE SOFTW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Download Prolific Driver v10.0 (Window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(For Mac OS users) Download md_PL2303_MacOS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90520" y="5045040"/>
            <a:ext cx="77151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Download eGizmo_Pbot_Uno (Unzip this before you move to librari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4392720" y="3168720"/>
            <a:ext cx="3450960" cy="509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D:\1AAAAAAAAAAA\MY PC 2023 FILES\NEW PBOT UNO\PBOTUNO2020\NEW MODIFIED 110323\lib.png"/>
          <p:cNvPicPr/>
          <p:nvPr/>
        </p:nvPicPr>
        <p:blipFill>
          <a:blip r:embed="rId4"/>
          <a:stretch/>
        </p:blipFill>
        <p:spPr>
          <a:xfrm>
            <a:off x="544680" y="5608800"/>
            <a:ext cx="264636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"/>
          <p:cNvSpPr/>
          <p:nvPr/>
        </p:nvSpPr>
        <p:spPr>
          <a:xfrm>
            <a:off x="925560" y="6751800"/>
            <a:ext cx="807732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eGizmo_Pbot_Uno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68360" y="1646280"/>
            <a:ext cx="771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Library folder should contains these examples ,src , utility, cpp , h, txt fi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D:\1AAAAAAAAAAA\MY PC 2023 FILES\NEW PBOT UNO\PBOTUNO2020\NEW MODIFIED 110323\contains.png"/>
          <p:cNvPicPr/>
          <p:nvPr/>
        </p:nvPicPr>
        <p:blipFill>
          <a:blip r:embed="rId1"/>
          <a:stretch/>
        </p:blipFill>
        <p:spPr>
          <a:xfrm>
            <a:off x="2754360" y="2103480"/>
            <a:ext cx="3751200" cy="4343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849240" y="6827760"/>
            <a:ext cx="771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Note: Restart your IDE if you added new libraries in Arduino to recognize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1T11:57:56Z</dcterms:created>
  <dc:creator/>
  <dc:description/>
  <dc:language>en-US</dc:language>
  <cp:lastModifiedBy>AMOR</cp:lastModifiedBy>
  <dcterms:modified xsi:type="dcterms:W3CDTF">2023-11-03T17:05:46Z</dcterms:modified>
  <cp:revision>236</cp:revision>
  <dc:subject/>
  <dc:title>Pbot UNO</dc:title>
</cp:coreProperties>
</file>